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921-A616-4D3D-A8E0-A3BF0E1D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C3A-10D3-4B17-8421-ED56B3F8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01EA7-94BE-40AF-8DCC-6DE7651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BF97F-EAEE-423B-A593-B27DD72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E5E37-A277-4707-8D0F-D51F8BA9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1BC14-2ACC-4F85-8AE5-21E7962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7A285-08A6-463A-8D93-E4842FC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EE405-8CE7-44D7-A9DA-821E393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F4318-24D4-49D3-9578-E8D28E86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54CDE-8B9C-4D6C-AFA2-DD97ABA3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C3ABB-F056-40BA-976E-FE124D90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65463-A669-47E5-B809-5839B73E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599-3E66-4D26-809F-6D4015E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91B2C-8AE3-4992-A814-9ACE981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5F36A-B317-406A-803D-B0A7ED5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F5D1A-C464-418B-9506-C1E3EDC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D2A10-E4C1-4FB1-86BD-C131D4A0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A6ECA-FCE6-45A9-9F3E-F5628B69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69EFC-98B3-4421-B5A2-AABD3A2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64F01-C515-4973-9FEF-2398CDEB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03642-9384-4CB2-9BF4-7CBEF6F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6AFA6-E374-4B8C-810C-E119529F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4D2CE-6CD1-4358-A57A-C8521276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0A9-E7FA-421B-B4D5-DEA0C9B3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048F7-CEB1-4E72-959F-97FD733D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C43A0-5EDC-41D0-AB9F-9C125492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15ABE-3A75-4633-8F17-4D5BCCB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CB0F3-BE59-4339-8677-BAE082E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917EA-AD87-4EF9-B88E-0009C479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E9488-F278-4B55-B55A-218F89D5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48BF8-6E1C-49E1-A788-B6E2C55E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910AD-4581-4169-B761-1D5FC31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DD114-90B7-4F7E-86AF-2C1334B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29AE-C5A4-4A65-8534-CD17F28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B199-801B-4E65-841F-69FEF6D7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16291-02B5-4D54-8D2A-CC7E8AA0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69434-4CEA-4694-A07F-563D6357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489B9-7CEB-40D5-A81E-2223FB35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1C735-216D-4877-9B54-E527F1D3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61539-B571-4D7F-886F-10758B8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736C5-84E9-42DB-A96C-3E1B4F85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AE835-991F-4D12-BB61-B2786DDC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38D7A-6467-47C2-A6DA-03F959A3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D9258-AD78-477C-A8AD-D0D1C05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E02A1-2E4F-48E3-B3B9-63B755B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EBBD-8246-4D5E-A628-BE02D2D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6CB8C-C7AA-4F3F-89E1-5C70046E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A31DA-86C9-4A34-9395-729AEA5E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A69FB-737E-4343-A570-E853C417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FF41E-F2D3-4DED-A736-86AFDE5D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288A1-5561-442C-A426-356E6B3A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8EF-0759-462B-88D2-886BB08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8D08-8A97-419D-9426-65C30D3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3D7F-B483-4A0A-B55A-1B96C43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941B-9C98-407D-9E38-564E096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9A7A-AD04-4D62-99ED-55FE7A1C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99D-DFAF-473B-A928-1582B356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FB06-6EEE-449E-A900-CF469AE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5121-4AF9-4467-A803-A8F21591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D1D7-9564-4437-8D54-251CD97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32BA-EA79-4401-B3E8-A139592C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828F-82A5-416B-9655-02BE165E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86B6-4F71-4964-BE7A-D169C2A1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9BFE-B0FC-4863-AE02-A2E6B5A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0717-4176-4290-95A5-717C0A75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1445-1CB8-4FB8-91F7-F8EB63A1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1B70-F1B2-42D2-B9F9-39C9B1D7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714-BF46-4D2D-98F0-D9A02732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E819-317D-4BDC-9A46-C8D2E2BB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02E0-164E-4523-9B39-8D45DD6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DD26-D872-48E9-AD52-0F1B201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4388-EA3C-4206-ACEA-807A81CD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169A-6DF5-452D-B3E4-7C687116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A69C-B621-45D8-AC48-F55C2108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292E-C8AC-4337-9E6D-5CA99EEE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B3A2-E825-4E9B-9C28-65534CE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95CE-7B9A-4DF2-837B-ABACD741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77CB-08E6-4948-B537-C833AFBB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0CB-8A40-40B1-B4C5-C733867B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283E-781D-4FE4-9B0A-2D0E1796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0FD9-8D31-4F14-86E0-9F28B69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19E0-4095-4D31-8175-1CFA72D1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3BA8-5EEB-4A96-B51A-EE2FB56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DF5F-DF8B-4AE4-A30B-8D0B56E5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1185-5676-489C-8517-F621FC7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4BC3C-4BCA-4F99-A906-65B0F1A2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EF65-F35E-48F1-9B4C-AC2D4038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2E7D-853B-4F97-A9EB-D556D8DD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941D-E675-486E-99CA-A7B15F50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DC3-3D98-4425-A820-3759F687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B20C-6C5C-4475-B248-C750CC3E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BEFB-8FE9-4C84-9E12-736052F0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7FDE2-B570-43C7-BCB3-52030262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317F2-6283-4DFD-AD7D-DC696409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3D2F-91FD-4734-BB08-8CE07655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0390-7CFA-4003-8748-620F8AD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503B-0F31-42F9-9642-428EB37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02AA-FC0D-441B-B07B-4960CDD8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7289F-14DF-4247-9F5F-FA383E29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F4106-60B9-4F99-8E19-E5DCC42D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E5B-CE44-4C31-A5F5-D43EB54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B8AB-D696-42C2-9486-65626C5B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332D-F482-4132-8B25-3F9E92EE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3A9F-291B-4E17-881E-49FB9EF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F9B80-B637-49F0-B662-1E143E4D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0F09-4290-4331-9C7E-D3616FE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C349-6F2A-4AB6-83A7-C0A22061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BCE5F-3B34-4464-ACD9-33B0DC0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2919-9A41-4CFB-8868-1D6FE20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D98C-B975-470C-B35A-B7DB44FD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6531-FEE3-4C64-A592-4739AB20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184-147C-44C1-ACE6-8454FFD5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542E-B3FD-4FAA-8883-80C7DE64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D5A7-73EB-489B-933D-62B10728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0BC8-0C9F-4DE2-A77E-B443A53F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DC6F-F045-4163-ADB2-ED79503F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7A0A-66B5-4C09-8486-DBFD1FC4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01127-21D3-4E1B-84EE-FE1DC897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F255-AF65-4EC5-9AFA-8D95C17D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090B-DBFD-4EBF-862B-BC0AC7E9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99CB-B041-4F82-BAE8-BB8F274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0F7DB-1F62-41F4-AAD5-D90452D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5FF-DB40-47A9-8389-F1E8905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5D51-5825-4D14-A370-D31370E4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66D28-58DF-433D-821F-CC8C3F52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CDE79-1644-4433-A0BD-6C526B59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4498-D276-4640-8726-972F38E4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B8A8-1ED0-48D0-92A8-B587D1D1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6C20F-990C-4034-957F-7B3F09DE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9BF53-2494-4623-BD70-F19204C9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379B-A843-4F54-A890-3D4C7E2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D5788-DD92-4E01-A393-C2C9F84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23FA1-05AB-44F6-8099-E3B188C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380-6AAA-49FD-BB88-D093005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A00A4-D43F-4B20-9B74-18DC599A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1524D-27D3-4423-B001-33529BB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E56FA-4F82-4EB0-B107-7FEE03E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BBBA0-B7F8-43AB-A04F-1C55D27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EC5C-86F8-4C96-AADE-2AE3730D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C56E3-34BD-4A9D-81A2-524DF96F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D4E2F-F6AC-4D3A-B253-D72ECD28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40731-179F-4DAB-BCCB-488E2E70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E61FB-DAD1-47C8-95EA-B22F7E3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C2DA9-3283-414E-B9F7-2E7865F7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9DD6-4744-4051-9DDE-1375EC1E8999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531-46C0-48FB-93AF-5B056C099ED7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82D-B8AC-40BD-AB18-890085615B4F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129-1601-46F4-BBED-645ABA6F9877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0E3B-2A47-4003-8C6B-D5980D60133D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09D-71C6-4FDE-8D4D-E7740A49C2DD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D8A-158C-48E3-BAA5-A5FB45AE2669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E3BD-96F4-45A8-8652-A9D7FFCA7FE2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FC88-5B1B-42F0-8695-DDAE62EDB8BB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CCE8-25C3-43B6-97BE-6B19271F7F21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BC0-826E-4961-9F11-0410E17D1C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0FB7-9843-4B6C-9FC6-136B18C2C58C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f0"/>
                </a:solidFill>
                <a:latin typeface="Georgia"/>
              </a:rPr>
              <a:t>Impulse and Momentum</a:t>
            </a:r>
            <a:endParaRPr b="0" lang="en-US" sz="4200" spc="-1" strike="noStrike">
              <a:solidFill>
                <a:srgbClr val="80b745"/>
              </a:solidFill>
              <a:latin typeface="Georgia"/>
            </a:endParaRPr>
          </a:p>
        </p:txBody>
      </p:sp>
      <p:pic>
        <p:nvPicPr>
          <p:cNvPr id="607" name="Picture 2" descr="http://agsinger.com/pics/momentum.jpg"/>
          <p:cNvPicPr/>
          <p:nvPr/>
        </p:nvPicPr>
        <p:blipFill>
          <a:blip r:embed="rId1"/>
          <a:stretch/>
        </p:blipFill>
        <p:spPr>
          <a:xfrm>
            <a:off x="2743200" y="3276720"/>
            <a:ext cx="34290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Terminology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Impulse: F</a:t>
            </a:r>
            <a:r>
              <a:rPr b="0" lang="el-GR" sz="27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, or the product of the average force on  object and the time interval over which it acts (measures in Newton-seconds)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Momentum: mv, or the product of the object’s mass and the objects velocity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Impulse-momentum Theorem: F</a:t>
            </a:r>
            <a:r>
              <a:rPr b="0" lang="el-GR" sz="27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= p</a:t>
            </a:r>
            <a:r>
              <a:rPr b="0" lang="en-US" sz="2700" spc="-1" strike="noStrike" baseline="-25000">
                <a:solidFill>
                  <a:srgbClr val="ff388c"/>
                </a:solidFill>
                <a:latin typeface="Georgia"/>
              </a:rPr>
              <a:t>f 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–p</a:t>
            </a:r>
            <a:r>
              <a:rPr b="0" lang="en-US" sz="2700" spc="-1" strike="noStrike" baseline="-25000">
                <a:solidFill>
                  <a:srgbClr val="ff388c"/>
                </a:solidFill>
                <a:latin typeface="Georgia"/>
              </a:rPr>
              <a:t>i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 ; The impulse on an object is equal to the object’s final momentum mines the object’s initial momentum (p= momentum)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oncept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e momentum of an object is the product of its mass and velocity and is a vector quantitiy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e impulse of an object is the average net force exerts on the object multiplied by the time interval over which the force acts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e impulse on an object is equal to the change in momentum of the object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Quest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88c"/>
                </a:solidFill>
                <a:latin typeface="Georgia"/>
              </a:rPr>
              <a:t>A pitcher claims he can throw a 0.151 kg baseball with as much momentum as a 3.0 g bullet moving with a speed of 1.50  10</a:t>
            </a:r>
            <a:r>
              <a:rPr b="0" lang="en-US" sz="2100" spc="-1" strike="noStrike" baseline="30000">
                <a:solidFill>
                  <a:srgbClr val="ff388c"/>
                </a:solidFill>
                <a:latin typeface="Georgia"/>
              </a:rPr>
              <a:t>3</a:t>
            </a:r>
            <a:r>
              <a:rPr b="0" lang="en-US" sz="2100" spc="-1" strike="noStrike">
                <a:solidFill>
                  <a:srgbClr val="ff388c"/>
                </a:solidFill>
                <a:latin typeface="Georgia"/>
              </a:rPr>
              <a:t> m/s. Which of the following is true</a:t>
            </a:r>
            <a:endParaRPr b="0" lang="en-US" sz="2100" spc="-1" strike="noStrike">
              <a:solidFill>
                <a:srgbClr val="ff388c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7030a0"/>
                </a:solidFill>
                <a:latin typeface="Georgia"/>
              </a:rPr>
              <a:t>a) ball has greater kinetic energy.</a:t>
            </a: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b) both have the same kinetic energy.    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c) the bullet has greater kinetic energy.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None of the above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Georgia"/>
              </a:rPr>
              <a:t>A pitcher throws a 0.15 kg baseball so that it crosses home plate horizontally with a speed of 10 m/s. It is hit straight back at the pitcher with a final speed of 24 m/s. Assume the direction of the initial motion of the baseball to be positive.</a:t>
            </a:r>
            <a:endParaRPr b="0" lang="en-US" sz="2300" spc="-1" strike="noStrike">
              <a:solidFill>
                <a:srgbClr val="ff388c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What is the impulse delivered to the ball?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Find the average force exerted by the bat on the ball if the two are in contact for 2.0  10</a:t>
            </a:r>
            <a:r>
              <a:rPr b="0" lang="en-US" sz="1900" spc="-1" strike="noStrike" baseline="30000">
                <a:solidFill>
                  <a:srgbClr val="7030a0"/>
                </a:solidFill>
                <a:latin typeface="Georgia"/>
              </a:rPr>
              <a:t>-3</a:t>
            </a: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 s.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Equat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680" y="2209680"/>
            <a:ext cx="403848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=MA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=M (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V/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 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T)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P=MV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t= M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V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00600" y="2057040"/>
            <a:ext cx="403848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P= momentum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V=veolicity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M= mass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= force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T= time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f0"/>
                </a:solidFill>
                <a:latin typeface="Georgia"/>
              </a:rPr>
              <a:t>Conservation of Linear Momentum in Collisions</a:t>
            </a:r>
            <a:endParaRPr b="0" lang="en-US" sz="4200" spc="-1" strike="noStrike">
              <a:solidFill>
                <a:srgbClr val="80b745"/>
              </a:solidFill>
              <a:latin typeface="Georgia"/>
            </a:endParaRPr>
          </a:p>
        </p:txBody>
      </p:sp>
      <p:pic>
        <p:nvPicPr>
          <p:cNvPr id="618" name="Picture 2" descr="crash test"/>
          <p:cNvPicPr/>
          <p:nvPr/>
        </p:nvPicPr>
        <p:blipFill>
          <a:blip r:embed="rId1"/>
          <a:stretch/>
        </p:blipFill>
        <p:spPr>
          <a:xfrm>
            <a:off x="2743200" y="3276720"/>
            <a:ext cx="3925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Terminology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osed system: a system that does not gain or lose mass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Isolated system: a closed system on which the net external force is zero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Law of conservation of momentum: states that the momentum of any closed, isolated system does not change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oncepts and Equat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In a linear collision, momentum is neither gained nor loss. Momentum is transferred to another object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 + 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= 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 + 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= 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f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= 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(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Ques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2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88c"/>
                </a:solidFill>
                <a:latin typeface="Georgia"/>
              </a:rPr>
              <a:t>A 1245 kg car traveling initially with a speed of 25.0 m/s in an easterly direction crashes into the rear end of a 9100 kg truck moving in the same direction at 20.0 m/s. The velocity of the car right after the collision is 18.0 m/s to the east.</a:t>
            </a:r>
            <a:endParaRPr b="0" lang="en-US" sz="1700" spc="-1" strike="noStrike">
              <a:solidFill>
                <a:srgbClr val="ff388c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49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Georgia"/>
              </a:rPr>
              <a:t>What is the velocity of the truck right after the collision?</a:t>
            </a:r>
            <a:endParaRPr b="0" lang="en-US" sz="14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88c"/>
                </a:solidFill>
                <a:latin typeface="Georgia"/>
              </a:rPr>
              <a:t>In a football game, a receiver is standing still, having just caught a pass. Before he can move, a tackler, running at a velocity of +4.8 m/s, grabs him. The tackler holds onto the receiver, and the two move off together with a velocity of +2.6 m/s. The mass of the tackler is 116 kg. Assuming that momentum is conserved, find the mass of the receiver. </a:t>
            </a:r>
            <a:endParaRPr b="0" lang="en-US" sz="2000" spc="-1" strike="noStrike">
              <a:solidFill>
                <a:srgbClr val="ff388c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A) 121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B)107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C)  73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D) 98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</p:txBody>
      </p:sp>
      <p:pic>
        <p:nvPicPr>
          <p:cNvPr id="625" name="Picture 2" descr="http://www.webassign.net/sb5/p9-21.gif"/>
          <p:cNvPicPr/>
          <p:nvPr/>
        </p:nvPicPr>
        <p:blipFill>
          <a:blip r:embed="rId1"/>
          <a:srcRect l="0" t="18899" r="0" b="0"/>
          <a:stretch/>
        </p:blipFill>
        <p:spPr>
          <a:xfrm>
            <a:off x="2057400" y="2590920"/>
            <a:ext cx="4867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23:36:56Z</dcterms:created>
  <dc:creator>Jackie</dc:creator>
  <dc:description/>
  <dc:language>en-US</dc:language>
  <cp:lastModifiedBy>Lisa</cp:lastModifiedBy>
  <dcterms:modified xsi:type="dcterms:W3CDTF">2011-01-22T02:10:29Z</dcterms:modified>
  <cp:revision>1</cp:revision>
  <dc:subject/>
  <dc:title>Impulse and Momentum</dc:title>
</cp:coreProperties>
</file>